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ABB-4F83-4308-8059-493688AD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12F-5FFD-430B-B434-4465AF64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71C-9097-4FFC-B1B5-FA904AAC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877-0DBD-46A5-AE5A-7B745331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788-AC79-4D8F-8EFB-14D89A2E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239-7BF1-46C7-B0D7-197BA02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952-CF6C-40C4-921D-BF412461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725-D9A3-4562-85BE-3C1149E2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41D-BA99-4257-8E70-1C8897BD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09E-4330-48CB-B156-C7EFFF7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DD5-E517-46F3-9903-0F79E68A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EA3-E1D0-44CD-AB9E-74B1A81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0DE1-B1FE-4C76-A2E3-D041F1E0F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qMjh1DhIhBM&amp;feature=related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524880" y="-3001320"/>
            <a:ext cx="1144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2666880" y="990720"/>
            <a:ext cx="3810240" cy="441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90920" y="563868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ritersforensicsblog.files.wordpress.com/200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0080"/>
                </a:solidFill>
                <a:uFillTx/>
                <a:latin typeface="Blue Ridge Heavy SF"/>
              </a:rPr>
              <a:t>Mary Shel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Born in 1797 in Great Bri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er mother, Mary Wollstonecraft was outspoken about her liberal views, and wrote and published her most famous work, </a:t>
            </a:r>
            <a:r>
              <a:rPr b="0" i="1" lang="en-US" sz="2400" spc="-1" strike="noStrike">
                <a:solidFill>
                  <a:srgbClr val="99cc00"/>
                </a:solidFill>
                <a:latin typeface="Arial"/>
              </a:rPr>
              <a:t>A Vindication of the Rights of Women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hedding light on the oppression of wo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er father was the philosopher William Godwin.  Godwin is extremely left wing, he was a devout atheist and carried beliefs about open marriag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ary Shelley’s mother died 6 months after giving birth to Mary, and her father got remarried to Jane Clairmont, which produced a step sister for Mary named Cl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12193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A Brief B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276360" cy="376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57800" y="1905120"/>
            <a:ext cx="304812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0" y="5943600"/>
            <a:ext cx="411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thebsreport.files.wordpress.com/2009/08/percy_bysshe_shelley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943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scienceblogs.com/clock/upload/2006/08/Mary%20Shelley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ue Ridge Heavy SF"/>
              </a:rPr>
              <a:t>Biography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Mary meets Percy Bysshe Shelley when she is 16, and he is already marr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In the summer of 1816 Mary and Percy go to Geneva with Lord Byron, his physician Dr. Palidori and Mary’s step-sister Cl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The summer was hardly a summer at all, the group was forced to spend much of their trip indoors due to poor wea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One night’s events turned to the telling of ghost stories, they read from the German collection </a:t>
            </a:r>
            <a:r>
              <a:rPr b="0" i="1" lang="en-US" sz="2400" spc="-1" strike="noStrike">
                <a:solidFill>
                  <a:srgbClr val="99cc00"/>
                </a:solidFill>
                <a:latin typeface="Arial Unicode MS"/>
              </a:rPr>
              <a:t>Fantasmagoria</a:t>
            </a: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 and made up their own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 Unicode MS"/>
              </a:rPr>
              <a:t>From here, a competition was born, and all set out to write their own horrific t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ue Ridge Heavy SF"/>
              </a:rPr>
              <a:t>Frankenstein is BO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2640" y="182844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fter many days, the group began sharing their tales.  Byron wrote a short story “The Burial” which was published later as a postscript to a larger work of 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Percy Shelley wrote “The Assassins” which did not go on to any publis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It was Palidori, Byron’s physician, who wrote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The Vampyr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, the first vampire tale to be published and English, and it is speculated that it is the sole inspiration for Bram Stoker’s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Dracula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 which was published 78 years lat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ary Shelley had little to contribute until one night she had a nightmare that roused her from her sleep.  She wrote her dream into a short story, and her soon-to-be husband loved it so much, he encouraged her to write a nov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Two years later, Mary Shelley published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Frankenstein, Or the Modern Promethi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ue Ridge Heavy SF"/>
              </a:rPr>
              <a:t>Why Does All of This Mat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6858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How might the background of an author effect or change the story he/she is wri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How might the circumstances in which an author begins a text ma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o you think this matters at all? What are the arguments against looking at an author before reading a nov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an you relate to Mary Shell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ue Ridge Heavy SF"/>
              </a:rPr>
              <a:t>Your very own Frankenste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at makes something </a:t>
            </a: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sca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s there a formula or set of rules to making a truly good ghost st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at is your favorite ghost st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n you remember any good ghost st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What is the difference between a ghost story and an urban lege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mpfire ti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8:23:58Z</dcterms:created>
  <dc:creator>Miranda</dc:creator>
  <dc:description/>
  <dc:language>en-US</dc:language>
  <cp:lastModifiedBy>Miranda</cp:lastModifiedBy>
  <dcterms:modified xsi:type="dcterms:W3CDTF">2009-10-21T05:26:09Z</dcterms:modified>
  <cp:revision>3</cp:revision>
  <dc:subject/>
  <dc:title>Slide 1</dc:title>
</cp:coreProperties>
</file>